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9DC98FF-26F4-4127-8B32-8616A980DB2A}"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89996E15-3FC2-432D-B54A-E29A0EA9620A}"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44B38-A1AD-4D61-9B62-741DB7CD4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2E81A-428D-48EB-BABF-6655F9C92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164BD-F31D-4D94-9874-5FA4C61C8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5FBB6-4042-44DE-95B2-3B39BA188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D21BC-1EA6-472F-994E-BD62872CC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BD9FE-E2F4-45C6-9345-CF1E748F1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170E8-B24A-4E76-900C-FF467DD58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35C19-5CBC-46F3-957C-EF580FDAB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7C198-138C-4496-B08C-5F64FAE5E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3D2FF-3901-474E-B92E-5D3E18240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F51B7-EE92-4608-B35E-25FFF97D8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8A3A6-2D6C-4D9F-8910-024267E20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5DD07-706D-45BF-B5FE-2630F11CC123}"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090960" y="47628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86521-9943-48BF-9DEA-C7612D29402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573E7-31C9-4760-8232-8A0CED0DF5E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5EC30-0DD2-4BF7-AE27-81730507268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76FA8-E759-480B-B196-3FAC799A41B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2A789-A3E5-4E23-AF4E-4588F1F105E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58D33-C70E-47AB-ABAA-DF185E830AA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1011E-0F7F-47BE-9AE6-C05F965EFF1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946A-6CB1-42E8-9619-087C24B150A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9DB7-1DEE-4E0B-9554-2D321628D22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2F41B-1771-46AF-8380-110EA5690CC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408DC-BAEA-40CE-9C2D-A8F22335886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FAB92-5DCA-4887-9737-FCCE7D3BF0B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CE76A-1CC5-49DB-92B6-86FCC15383E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13767-C67F-44A0-9BD5-2229A7D8B9E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3751D-B602-46FB-9CFA-EA530F83039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86EE2-EB7D-41EF-93D4-2AFDB4E8FDE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79E4D-D02F-4105-80F3-87B4FA90F8F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DFE4F-B6D5-4EF5-B236-6B43A4678D9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FF314-F93A-435E-A9B5-0FCBFBAB92C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F128D-BDBB-41C7-AD87-82B7BA0EC7A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AB211-B787-49D1-B727-D50E0790B16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F4D9A-10F7-4198-8B31-38CE6B55779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BF4AF-79E7-44CD-878F-6FAB9801611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8BA85-EF0C-42A9-AF07-1D8727A2D86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45623-707D-46A1-A76C-5B92BB3E2BD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61213-1D83-4A0B-AF11-25DF6505305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D4745-BE9E-434B-B7CC-3CAC0B50537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EBB3C-8CEA-49C7-B1AB-7A0E01836DC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0C124-7BF1-49BA-B05C-34EE98EA9E7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E4323-101C-4A6A-BB13-D76C160EB14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E1BE4-DE7D-4A4C-A459-271542A7FF0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398E8-EEAE-4AAD-831C-36CA8D41D6A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6B63A-62B1-47BB-956F-402D97F0C34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C7045-BFFD-47C0-B79C-F431DF19B51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C374D-6ADB-45F4-B484-78D8059FD65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35A40-503E-4870-8CDB-47806B26B0A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38344-89AA-4594-B941-97695E1F211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1AFF9-2335-448D-AAD4-4C2BD55EF21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49A38-5FA8-4800-B3B5-D4CC6A8E213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806E2-A6C0-4AD3-B3AA-4AF542933C1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D4B0-CFFE-4772-9619-20FCA84120F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1-09-29T12:19:34Z</dcterms:modified>
  <cp:revision>74</cp:revision>
  <dc:subject/>
  <dc:title>Aims and Objectives</dc:title>
</cp:coreProperties>
</file>